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4E1-7990-457C-BC0B-74251CAB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C54-13BD-4CA4-B8A3-D3C3B2BC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855-7494-4A28-AA7B-9332953E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ECF-1DDA-420C-B97E-55D81D7F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B491-79A3-428D-A4D6-008F7AB1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F70D-53A1-4343-9CD9-FE8C078D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A6CB-FAB2-4B94-B819-A9538306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B130-6577-4D72-8FE7-32D809D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87AC-29F6-47E1-9052-CB93BF66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24FF-5F95-4649-9FF5-B17C2821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9EBA-E79F-4CEF-A03B-7C29E5E3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765-48E2-4CFA-A0F4-B4AB91B9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DC22-454A-4906-B8E2-7704C96E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6737-46DF-40BE-8DB7-9AE2D3C2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10B1-E982-438D-860E-C6B92B1E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BF56-0B9E-4779-8484-A81A951D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286-785B-4572-ADE9-D17F606B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75E-91E5-4FD8-AF53-37AD1645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BFB-0B87-499B-9946-9B4A78F3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3AB-8F81-43F9-895D-9D7BD0C4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A76-6B2A-4F1F-9EDE-7A6EDA6A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226-E183-48F1-8DB4-1595873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CDB-3321-468F-AD39-B47B94F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2A1-B603-4CCE-8A0E-73C9017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0de"/>
            </a:gs>
            <a:gs pos="100000">
              <a:srgbClr val="ecf0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0AD-B4CA-4480-95EF-75F024FF683E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0de"/>
            </a:gs>
            <a:gs pos="100000">
              <a:srgbClr val="ecf0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3E4F-962E-44E8-9ECF-F3E238BF7616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garanteprivacy.i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ADBB-8767-4041-8861-568E9085B5F5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76360" y="1989000"/>
            <a:ext cx="6480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a guida per capire le norme sulla privac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l Decreto Ministeriale 305/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dentificazione dei dati sensibili e giudiziari trattati e delle relative operazioni effettuate dal Ministero Pubblica Istruzione in attuazione del codice sulla priv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4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2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2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3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CAA0-078D-49ED-AFA5-F74AA7CEC0B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individua tutti i dati che possono essere oggetto di trattamento per le procedure di selezione, di reclutamento, di instaurazione, di gestione e di cessazione del rapporto di lavo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26"/>
          <p:cNvSpPr/>
          <p:nvPr/>
        </p:nvSpPr>
        <p:spPr>
          <a:xfrm>
            <a:off x="8153280" y="304812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1600200" y="4038480"/>
            <a:ext cx="648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Brigitte"/>
                <a:ea typeface="Times New Roman"/>
              </a:rPr>
              <a:t>dati inerenti lo stato di salute, l'adesione a sindacati, quelli sulle convinzioni religiose per la concessione di permessi legati a particolari festività o per il reclutamento degli insegnanti di religione, i dati sulle convinzioni filosofiche o d'altro genere per eventuali connessioni con lo svolgimento del servizio di leva o come obiettore di coscienza, i dati di carattere giudiziario nell'ambito delle procedure concorsuali che coinvolgono l'interessato, le informazioni sulla vita sessuale connessi unicamente al caso eventuale della rettifica di attribuzione di sesso</a:t>
            </a:r>
            <a:r>
              <a:rPr b="1" lang="it-IT" sz="14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31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2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34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35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36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F32D-9CFD-43DC-8F4F-8AE6F0C24B3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1 vengono elencati tutti i procedimenti finalizzati alla gestione del personale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selezione e il reclutamento, l'instaurazione, la gestione e alla cessazione del rapporto di lavo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987640" y="4508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AL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932360" y="450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ESIONI SINDA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692360" y="51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ONVINZIONI RELIGIO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07672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ONVINZIONI FILOSOF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627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GIUDIZ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514836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VITA SESSU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2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3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AutoShape 25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26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27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A9C8-ABAA-4E68-B556-B99095EB7C2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1 vengono elencati tutti i procedimenti finalizzati alla gestione del personale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selezione e il reclutamento, l'instaurazione, la gestione e alla cessazione del rapporto di lavo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63640" y="40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ON BAST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ltre all’elencazione dei procedimenti sono elencate anche talune operazioni che materialmente vengono compiute per evadere tali procedi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i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3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4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45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6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7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utoShape 48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BDC-7632-4566-9425-720CEEC81A3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Gestione del contenzioso e procedimenti disciplinari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619280" y="270828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dei dati sensibili e giudiziari concernente tutte le attività relative alla difesa in giudizio del MPI e delle istituzioni scolastiche nel contenzioso del lavoro e amministrativo nonché quelle connesse alla gestione degli affari penali e civi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8172360" y="371628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Essa assume rilievo soprattutto nelle ipotesi di contenzioso amministrativo e del lavoro, nonché nelle questioni civili e pena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0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E263-0778-4A14-9EFC-D15B7E09708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5">
            <a:hlinkClick r:id="" action="ppaction://hlinkshowjump?jump=nextslide"/>
          </p:cNvPr>
          <p:cNvSpPr/>
          <p:nvPr/>
        </p:nvSpPr>
        <p:spPr>
          <a:xfrm>
            <a:off x="774072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6">
            <a:hlinkClick r:id="" action="ppaction://hlinkshowjump?jump=firstslide"/>
          </p:cNvPr>
          <p:cNvSpPr/>
          <p:nvPr/>
        </p:nvSpPr>
        <p:spPr>
          <a:xfrm>
            <a:off x="738036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AutoShape 7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Organismi collegiale e commissioni istituzional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61928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e la descrizione dei dati sensibili nell' ambito degli organismi collegiali e delle commissioni istituzionali, organi rappresentativi sia del personale amministrativo e scolastico, sia degli studenti, che delle famiglie e delle associazioni sindacali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8172360" y="371628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619280" y="4508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dato sensibile trattato è quello dell'appartenenza alle organizzazioni sindacali, con riferimento agli organismi o comitati che richiedano la partecipazione di rappresentanti delle organizzazioni sindacal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763640" y="58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67C5-ACE1-455A-A9FE-52525BFC917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4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e fasi propedeutiche all'avvio dell'anno scolastico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1619280" y="270828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di tutti i dati coinvolti nelle attività propedeutiche all'avvio dell'anno scolastico: si tratta dei dati forniti dagli alunni e dalle famiglie ai fini della frequenza dei corsi di studio di ogni ordine e grado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8172360" y="357336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619280" y="4508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è possibile, in tal caso, imbattersi in dati relativi alle origini razziali ed etniche, alle convinzioni religiose, allo stato di salute, alle vicende giudiziar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04FD-F219-4554-A35C-2A9573CB49A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'attività didattica e nella valutazione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619280" y="2708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attiene al rilevamento e alla trattazione di dati raccolti nell'ambito dell'attività educativa, didattica e formativa e di valutazion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8172360" y="314172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619280" y="4005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anche in tal caso possono rilevare i dati sensibili relativi alle origini razziali ed etniche, alle convinzioni religiose, allo stato di salute, ai dati giudiziari, alle convinzioni politiche - per la costituzione e il funzionamento delle Consulte degli studenti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EFC-9B0C-4134-90DB-59CF92B0438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'attività didattica e nella valutazione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1600200" y="26668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5 si prende in considerazione principalmente l’attività svolta dal corpo docente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763640" y="40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ON BAST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ltre all’elencazione dei procedimenti sono elencate anche talune operazioni che materialmente vengono compiute per evadere tali procedi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i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7DF-BEA0-4F15-9B91-73E0C577A86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cuole non stata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619280" y="2349360"/>
            <a:ext cx="64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 dati sensibili e loro trattamento nel contesto degli Enti vigilati e delle Scuole non statali. Nell'ambito delle procedure di accreditamento e di autorizzazione delle istituzioni scolastiche non statali, l'Amministrazione scolastica periferica esercita attività di: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concessione o revoca della parità; concessione della parifica (scuola primaria); concessione o revoca del riconoscimento legale (scuole secondarie); concessione o revoca della presa d'at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21EA-D3BB-4119-98AC-C90AEFF12067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cuole non stata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619280" y="234936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sensibili emergono anche in caso di: attività di vigilanza e controllo effettuate dall'Amministrazione centrale e periferica che prevedono l'accesso ai fascicoli personali dei docenti e degli alunn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4572000" y="3716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619280" y="4724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sensibili sono, inoltre, trattati dai Dirigenti scolastici nelle scuole dell'infanzia e primarie incaricati della vigilanza sulle scuole non stata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6955-2343-4C3E-AD53-649C9926DFB7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19280" y="191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codice sulla privacy dedica due articoli all’ambito scuola. In particolare gli artt. 95 e 9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7164360" y="2565360"/>
            <a:ext cx="827280" cy="1133640"/>
          </a:xfrm>
          <a:prstGeom prst="wedgeRectCallout">
            <a:avLst>
              <a:gd name="adj1" fmla="val -172458"/>
              <a:gd name="adj2" fmla="val -6190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2" descr="gazzetta 3"/>
          <p:cNvPicPr/>
          <p:nvPr/>
        </p:nvPicPr>
        <p:blipFill>
          <a:blip r:embed="rId1"/>
          <a:stretch/>
        </p:blipFill>
        <p:spPr>
          <a:xfrm>
            <a:off x="7236000" y="2637000"/>
            <a:ext cx="72072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619280" y="2781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realtà altre normative prendono in considerazione il problema della tutela della riservatezza nell’ambito della scu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619280" y="3789360"/>
            <a:ext cx="5040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In particolare oltre alla normativa generale vi sono dei richiami specifici che so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Art. Art. 330 bis TU 297/94 (oggi abrog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Art. 2, c. 2  d.p.r. 249/98 (regolamento sullo statuto delle studentesse e degli studen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7164360" y="4581360"/>
            <a:ext cx="827280" cy="1133640"/>
          </a:xfrm>
          <a:prstGeom prst="wedgeRectCallout">
            <a:avLst>
              <a:gd name="adj1" fmla="val -131000"/>
              <a:gd name="adj2" fmla="val 2997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6" descr="gazzetta 3"/>
          <p:cNvPicPr/>
          <p:nvPr/>
        </p:nvPicPr>
        <p:blipFill>
          <a:blip r:embed="rId2"/>
          <a:stretch/>
        </p:blipFill>
        <p:spPr>
          <a:xfrm>
            <a:off x="7236000" y="4653000"/>
            <a:ext cx="720720" cy="10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logo_italian_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31AB-BF10-44F9-B31D-4DD5AB17D4A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7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Rapporti scuola-famiglie: gestione del contenzios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619280" y="27082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 dati sensibili e giudiziari concernenti le attività connesse alla instaurazione di contenzioso (reclami, ricorsi, esposti, provvedimenti disciplinari etc.) con gli alunni e con le famiglie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619280" y="4365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tratta di una scheda di particolare rilievo per coloro che operano negli uffici amministra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8172360" y="3357720"/>
            <a:ext cx="609840" cy="158400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FD9-7FB0-4102-9D9E-1BAB29373B59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619280" y="2421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tratta di un provvedimento importante, previsto dagli articoli 20 e 21 del D. L.vo 196/03 e più volte sollecitato dal Garante per la protezione della privacy,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619280" y="4508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he ha la funzione di specificare i tipi di dati che possono essere trattati dalle scuole, le operazioni che su di essi sono eseguibili e le finalità di rilevante interesse pubblico persegu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AutoShape 14"/>
          <p:cNvSpPr/>
          <p:nvPr/>
        </p:nvSpPr>
        <p:spPr>
          <a:xfrm>
            <a:off x="4572000" y="3500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784D-8E4B-4169-983B-ACEC28B2813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187280" y="2708280"/>
            <a:ext cx="30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enza l’adozione del Regolamento, che risponde alle prescrizioni del Garante non sarebbe stato possibile, nelle scuole, operare il trattamento dei dati sensibili e giudiziari, dopo il 28 febbraio 2007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13"/>
          <p:cNvSpPr/>
          <p:nvPr/>
        </p:nvSpPr>
        <p:spPr>
          <a:xfrm rot="16200000">
            <a:off x="4426560" y="3645720"/>
            <a:ext cx="72072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5292720" y="2997360"/>
            <a:ext cx="28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tale data sarebbe scaduta l’ennesima proroga dei termini stabilita da successivi interventi legislativi del governo e del parlamento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E22-0AE0-4724-8542-9E30D6461EC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oltre è molto importante non perdere di vista il contesto in cui il trattamento si svolge descritto in maniera riassuntiva dalle schede medes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1619280" y="3789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 esempio per le operazioni propedeutiche di avvio dell’anno scolastico (scheda n.4) non è consentito il trattamento dei dati relativi alle convinzioni filosofiche, che invece è consentito per la gestione del contenzioso e procedimenti disciplinari (scheda n.2)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4"/>
          <p:cNvSpPr/>
          <p:nvPr/>
        </p:nvSpPr>
        <p:spPr>
          <a:xfrm>
            <a:off x="8172360" y="285264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3F8D-F8CA-4970-A87C-0C7C442E97B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pratica, le schede, sono molto importanti dal punto di vista operativo e costituiscono una ”guida” obbligatoria da cui le scuole non possono derog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619280" y="3789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 esempio, nella gestione del rapporto di lavoro (scheda n. 1), i dati idonei a rilevare l’adesione al sindacato possono essere trattati solo per operare la ritenuta sindacale e per l’esercizio dei diritti sindacali. Un trattamento per fini diversi sarebbe illegittim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CFB-860E-48EA-8A29-3CEE54666883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L’adozione del Regolamento da parte del Ministero non richiede una successiva adozione da parte delle scuole, obbligate per legge a rispettarlo,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1619280" y="4292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ma comporta la necessità di rivedere e modificare alcuni atti già adottati e i procedimenti interni alla scuola seguiti nel trattamento dei dati sensibili e giudiziar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4572000" y="3500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060-C312-4B61-8EA0-91972186684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61928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nel Documento Programmatico per la Sicurezza la parte relativa all’elenco dei dati personali trattati sia adeguata alle prescrizioni e indicazioni contenute nelle schede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CB9B-44F8-4F12-9406-2A711284AD3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619280" y="3284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Titolare del trattamento (dirigente scolastico) adegui la nomina del Responsabile del trattamento richiamando le prescrizioni contenute nel Regolamento e fornendo gli indirizzi per la loro attuazione nei procedimenti amministrativi e nella gestione delle attività;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252D-0C3D-4566-9FFA-B427144101E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619280" y="3284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Responsabile del trattamento (per la parte relativa al personale posto alle sue dirette dipendenze) e il Titolare del trattamento (per il personale docente) adeguino le designazioni degli incaricati del trattamento, modificando, se necessario, le autorizzazioni concesse e le linee guida emanate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48D9-72EC-489E-BCF3-1B76941E76A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1619280" y="32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conoscenza del Regolamento sia oggetto dell’attività di formazione del personale incaricato prevista dal D.L.vo 196/03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F72-0315-44CF-8D52-F5749D01225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19280" y="1916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normativa prevista dal codice sulla privacy in sostanza non fa altro che ricalcare le affermazioni contenute nel vecchio art. 330 bis TU 297/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1619280" y="3068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Mentre le affermazioni di principio contenute all’art. 2, c. 2  d.p.r. 249/98 appaiono superate per il fatto che vi è solo un generico rimando alla “tutela della riservatezza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4572000" y="40384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600200" y="4724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può dunque affermare che una regolamentazione completa del diritto alla tutela dei dati personali (e non solo della riservatezza) si è avuta con il codice della privacy al quale di recente si è aggiunto il DM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33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4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36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37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38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2335-2DC3-4FB6-9BFA-F265B8E92CC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1619280" y="32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nell’informativa agli interessati si faccia riferimento al rispetto da parte della scuola alle prescrizioni del Regolamento;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Picture 15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8BB3-3D24-439F-BEBF-74F08FA01FF9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161928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dia evidenza dell’aggiornamento del Documento Programmatico per la Sicurezza nella relazione al programma annuale. Tale adempimento va fatto entro il 31 marzo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18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019-D5BB-403E-901E-90AB886F6C8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4" name="Picture 6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AutoShape 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AutoShape 1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AutoShape 1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1258920" y="1844640"/>
            <a:ext cx="7122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Monotype Corsiva"/>
              </a:rPr>
              <a:t>Note sul copy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1258920" y="2349360"/>
            <a:ext cx="7200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Monotype Corsiva"/>
              </a:rPr>
              <a:t>L’utente riconosce che tutti i diritti associati a questo prodotto multimediale ed ai suoi componenti, al manuale ed alla confezione, oltre i diritti relativi al trademark, royalty e copyright, sono di proprietà dell’avvocato Vincenza Pierri e sono protetti dalla legislazione italiana o altre leggi, trattati e accordi internazionali relativi alla proprietà intellettual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Monotype Corsiva"/>
              </a:rPr>
              <a:t>E’ vietato copiare, riprodurre o trasferire in alcuna forma, sia per intero sia parzialmente, la presente documentazione senza autorizzazione scritta dell’au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1547640" y="5589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91E9-EB08-4404-849E-80C725E9476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19280" y="1773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Occorre anche considerare che nell’ambito scuola la tutela della riservatezza e dei dati personali non è argomento che riguardi solo gli stud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619280" y="2781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fatti dati utilizzati e trattati dalla scuola concernon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692360" y="3573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195640" y="3645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gli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lunni 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e le rispettive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famig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1692360" y="4437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195640" y="4508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il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personale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 scola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692360" y="5373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2195640" y="522936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altri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soggetti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 relativamente ad attività svolte nella scuola o    nell’esercizio dell’azione amminist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21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2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24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25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26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DAF-2CA7-4C22-AF28-276FED26A2C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600200" y="19051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L’esigenza di disporre di un regolamnto specifico discende dalla stessa previsione del Codice sulla Privacy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1600200" y="304812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 particolare gli articoli 20, comma 2, e 21, comma 2, dispongono che, nel caso in cui una disposizione di legge specifichi la finalità di rilevante interesse pubblico, ma non i tipi di dati sensibili e giudiziari trattabili ed i tipi di operazioni su questi eseguibili, il trattamento è consentito solo in riferimento a quei tipi di dati e di operazioni identificati e resi pubblici a cura dei soggetti che ne effettuano il trattamento, in relazione alle specifiche finalità perseguite nei singoli c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3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3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E095-16B7-4F8C-9C98-44C6221AC069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19280" y="1916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Regolamento, predisposto dal MPI, disciplina il trattamento dei dati sensibili e giudiziari gestiti dallo stesso Ministero e dalle istituzioni scolastiche. Si tratta di un quadro generale di garanzie per la gestione dei dati che incidono in modo significativo in particolare sulla sfera privata degli studenti.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619280" y="386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Regolamento medesimo contiene una serie di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schede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8172360" y="278136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692360" y="486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totale le schede sono 7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9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0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22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23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24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1F9E-B036-4FB0-AF9E-762656DE437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619280" y="1916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elle “schede” sono riportate le finalità di rilevante interesse pubblico per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trattare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i dati sensibili e giudizia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1692360" y="3068640"/>
            <a:ext cx="64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ciascuna di esse si articola in diverse par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dicazione del trattamen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Finalità di rilevante interesse pubblico persegu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Fonti norm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Tipi di dati trattat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perazioni esegu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tre tipologie di trattament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0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A937-EE15-42FB-914D-BC8AF3986DA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19280" y="19162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Scopo del Regolamento è identificare le tipologie dei dati sensibili e giudiziari e delle operazioni indispensabili per la gestione del sistema dell'istru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600200" y="30481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Arial Unicode MS"/>
              </a:rPr>
              <a:t>Detti dati devono essere trattati previa verifica della loro pertinenza, completezza e indispensabilità rispetto alle finalità perseguite nei vari cas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600200" y="434340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Arial Unicode MS"/>
              </a:rPr>
              <a:t>Le varie operazione di trattamento (raffronti, interconnessioni, comunicazioni) sui dati raccolti sono ammesse soltanto se indispensabili allo svolgimento degli obblighi o dei compiti di volta in volta individuati e solo per il perseguimento di rilevanti finalità di interesse pubblico e istituziona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760C-5A7D-413A-B501-69B0E8A2647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600200" y="17524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decreto si sostanzia in sette schede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981080" y="2133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Personale dell'amministrazione e personale scolastico (docenti e AT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752480" y="22096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752480" y="28195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981080" y="28195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Gestione del contenzioso e procedimenti disciplina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1752480" y="33526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981080" y="33526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rganismi collegiali e commissioni istituziona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1752480" y="39625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981080" y="3886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unni nelle fasi propedeutiche all'avvio dell'anno scolastic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1752480" y="46483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1981080" y="46483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unni nell'attività didattica e nella valut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WordArt 21"/>
          <p:cNvSpPr txBox="1"/>
          <p:nvPr/>
        </p:nvSpPr>
        <p:spPr>
          <a:xfrm>
            <a:off x="1752480" y="51814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981080" y="51814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Scuole non stata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WordArt 23"/>
          <p:cNvSpPr txBox="1"/>
          <p:nvPr/>
        </p:nvSpPr>
        <p:spPr>
          <a:xfrm>
            <a:off x="1752480" y="57913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1981080" y="57913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Rapporti scuola-famiglie: gestione del contenzio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2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3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3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3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0:11:46Z</dcterms:created>
  <dc:creator> pippo</dc:creator>
  <dc:description/>
  <dc:language>en-US</dc:language>
  <cp:lastModifiedBy>Pinocchio</cp:lastModifiedBy>
  <dcterms:modified xsi:type="dcterms:W3CDTF">2010-04-11T20:04:44Z</dcterms:modified>
  <cp:revision>4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