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783-721F-4D68-815E-40DBB07F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3BC-19EF-4873-9EE7-0B61BA9A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664-26FD-41D5-8BAA-0C5E9ED9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592-C60E-44A6-8BDC-31BABF7D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65D1-5949-4EAC-A732-F0024B7A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934C-6722-417A-AB1E-26A9873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3B2-6AA7-44B2-A520-C3B5AFB8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B333-3889-45FA-BFC0-2ECDA75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4BEA-F16E-4CB5-8B38-4905CE6D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F3CD-87DA-4CA6-A054-CABA95F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055C-5BB8-480F-9370-70A1E71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FB8-2490-4A13-B14B-37179027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C38-7DC7-4769-8F81-849BB0B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5D0C-388C-4D86-A7DE-1B919C7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7DF4-DB89-48F0-8FCA-2880E9DB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82CF-D884-4A85-8F9E-4E3B6F2C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80B-BAFC-4A62-94B1-A21267AB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8C2-14AE-42CD-95E2-9CB8FC2B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A38-D0A9-418C-B640-C83BC676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C09-F5AB-4F75-BE80-C6A7BCD5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013-A339-4CF9-B139-FA245EE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B66-78F9-4DD4-98A3-5CB5EDDB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5D1-5362-401A-B39B-430C3CB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AE6-8F15-4498-AA55-2A9280F3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0de"/>
            </a:gs>
            <a:gs pos="100000">
              <a:srgbClr val="ecf0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79E-6CB9-472D-A9B3-CA7E452E091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0de"/>
            </a:gs>
            <a:gs pos="100000">
              <a:srgbClr val="ecf0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B42-37B7-4ADC-967F-A012F3C7F1A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garanteprivacy.i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ranteprivacy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C9F3-4886-4554-B1FB-CD488210746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76360" y="1989000"/>
            <a:ext cx="6480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a guida per capire le norme sulla privac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l Decreto Ministeriale 305/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 dei dati sensibili e giudiziari trattati e delle relative operazioni effettuate dal Ministero Pubblica Istruzione in attuazione del codice sulla priv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4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2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2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3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3014-5935-429A-B118-31EF0F563546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individua tutti i dati che possono essere oggetto di trattamento per le procedure di selezione, di reclutamento, di instaurazione, di gestione e di cessazione del rapporto di lavo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26"/>
          <p:cNvSpPr/>
          <p:nvPr/>
        </p:nvSpPr>
        <p:spPr>
          <a:xfrm>
            <a:off x="8153280" y="304812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1600200" y="4038480"/>
            <a:ext cx="648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Brigitte"/>
                <a:ea typeface="Times New Roman"/>
              </a:rPr>
              <a:t>dati inerenti lo stato di salute, l'adesione a sindacati, quelli sulle convinzioni religiose per la concessione di permessi legati a particolari festività o per il reclutamento degli insegnanti di religione, i dati sulle convinzioni filosofiche o d'altro genere per eventuali connessioni con lo svolgimento del servizio di leva o come obiettore di coscienza, i dati di carattere giudiziario nell'ambito delle procedure concorsuali che coinvolgono l'interessato, le informazioni sulla vita sessuale connessi unicamente al caso eventuale della rettifica di attribuzione di sesso</a:t>
            </a:r>
            <a:r>
              <a:rPr b="1" lang="it-IT" sz="14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31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2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34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35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36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047-BF54-4A68-9D67-230605D49CE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1 vengono elencati tutti i procedimenti finalizzati alla gestione del personale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selezione e il reclutamento, l'instaurazione, la gestione e alla cessazione del rapporto di lavo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987640" y="4508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AL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932360" y="45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ESIONI SINDA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692360" y="51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ONVINZIONI RELIGIO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07672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ONVINZIONI FILOSOF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2627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GIUDIZ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514836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VITA SESSU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2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3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AutoShape 25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26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27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0DD-11F0-4C57-8309-42F35829D9E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Personale dell'amministrazione e personale scolastico (docenti e ATA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600200" y="26668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1 vengono elencati tutti i procedimenti finalizzati alla gestione del personale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selezione e il reclutamento, l'instaurazione, la gestione e alla cessazione del rapporto di lavo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1763640" y="40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ON BAST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ltre all’elencazione dei procedimenti sono elencate anche talune operazioni che materialmente vengono compiute per evadere tali proced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i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3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4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45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6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7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48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F9A-DAA1-486A-9818-A95EEE3EDA7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Gestione del contenzioso e procedimenti disciplinari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619280" y="2708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dei dati sensibili e giudiziari concernente tutte le attività relative alla difesa in giudizio del MPI e delle istituzioni scolastiche nel contenzioso del lavoro e amministrativo nonché quelle connesse alla gestione degli affari penali e civi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8172360" y="371628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Essa assume rilievo soprattutto nelle ipotesi di contenzioso amministrativo e del lavoro, nonché nelle questioni civili e pen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20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33CA-57F3-4F5D-97EF-2043D013946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5">
            <a:hlinkClick r:id="" action="ppaction://hlinkshowjump?jump=nextslide"/>
          </p:cNvPr>
          <p:cNvSpPr/>
          <p:nvPr/>
        </p:nvSpPr>
        <p:spPr>
          <a:xfrm>
            <a:off x="774072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6">
            <a:hlinkClick r:id="" action="ppaction://hlinkshowjump?jump=firstslide"/>
          </p:cNvPr>
          <p:cNvSpPr/>
          <p:nvPr/>
        </p:nvSpPr>
        <p:spPr>
          <a:xfrm>
            <a:off x="738036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7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3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Organismi collegiale e commissioni istituzional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61928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e la descrizione dei dati sensibili nell' ambito degli organismi collegiali e delle commissioni istituzionali, organi rappresentativi sia del personale amministrativo e scolastico, sia degli studenti, che delle famiglie e delle associazioni sindacali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8172360" y="371628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619280" y="4508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dato sensibile trattato è quello dell'appartenenza alle organizzazioni sindacali, con riferimento agli organismi o comitati che richiedano la partecipazione di rappresentanti delle organizzazioni sindacal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763640" y="58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2764-A1C7-48B2-9EB6-4DBF32ED193E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4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e fasi propedeutiche all'avvio dell'anno scolastico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1619280" y="2708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l trattamento di tutti i dati coinvolti nelle attività propedeutiche all'avvio dell'anno scolastico: si tratta dei dati forniti dagli alunni e dalle famiglie ai fini della frequenza dei corsi di studio di ogni ordine e grado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1"/>
          <p:cNvSpPr/>
          <p:nvPr/>
        </p:nvSpPr>
        <p:spPr>
          <a:xfrm>
            <a:off x="8172360" y="357336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619280" y="4508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è possibile, in tal caso, imbattersi in dati relativi alle origini razziali ed etniche, alle convinzioni religiose, allo stato di salute, alle vicende giudiziar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A6F6-AF59-4DF9-9E49-3173DFC00F0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'attività didattica e nella valutazione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619280" y="2708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attiene al rilevamento e alla trattazione di dati raccolti nell'ambito dell'attività educativa, didattica e formativa e di valutazi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11"/>
          <p:cNvSpPr/>
          <p:nvPr/>
        </p:nvSpPr>
        <p:spPr>
          <a:xfrm>
            <a:off x="8172360" y="314172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619280" y="4005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anche in tal caso possono rilevare i dati sensibili relativi alle origini razziali ed etniche, alle convinzioni religiose, allo stato di salute, ai dati giudiziari, alle convinzioni politiche - per la costituzione e il funzionamento delle Consulte degli studenti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B57A-299D-4553-B319-97365F210A9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5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lunni nell'attività didattica e nella valutazione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1600200" y="26668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sostanza nella scheda n. 5 si prende in considerazione principalmente l’attività svolta dal corpo docente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763640" y="4005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ON BAST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1619280" y="4581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ltre all’elencazione dei procedimenti sono elencate anche talune operazioni che materialmente vengono compiute per evadere tali proced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1763640" y="5661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i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2978-D289-49D7-A8FC-7CEF3C903B7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cuole non stat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619280" y="2349360"/>
            <a:ext cx="64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 dati sensibili e loro trattamento nel contesto degli Enti vigilati e delle Scuole non statali. Nell'ambito delle procedure di accreditamento e di autorizzazione delle istituzioni scolastiche non statali, l'Amministrazione scolastica periferica esercita attività di: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concessione o revoca della parità; concessione della parifica (scuola primaria); concessione o revoca del riconoscimento legale (scuole secondarie); concessione o revoca della presa d'at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1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AutoShape 2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2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727-E83C-4A77-874F-B947C9AF170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6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cuole non stat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619280" y="234936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sensibili emergono anche in caso di: attività di vigilanza e controllo effettuate dall'Amministrazione centrale e periferica che prevedono l'accesso ai fascicoli personali dei docenti e degli alunn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4572000" y="3716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619280" y="4724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Dati sensibili sono, inoltre, trattati dai Dirigenti scolastici nelle scuole dell'infanzia e primarie incaricati della vigilanza sulle scuole non statal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917D-10BC-4A1A-9F6B-B6CCF9FF46E7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19280" y="191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codice sulla privacy dedica due articoli all’ambito scuola. In particolare gli artt. 95 e 9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7164360" y="2565360"/>
            <a:ext cx="827280" cy="1133640"/>
          </a:xfrm>
          <a:prstGeom prst="wedgeRectCallout">
            <a:avLst>
              <a:gd name="adj1" fmla="val -172458"/>
              <a:gd name="adj2" fmla="val -6190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2" descr="gazzetta 3"/>
          <p:cNvPicPr/>
          <p:nvPr/>
        </p:nvPicPr>
        <p:blipFill>
          <a:blip r:embed="rId1"/>
          <a:stretch/>
        </p:blipFill>
        <p:spPr>
          <a:xfrm>
            <a:off x="7236000" y="2637000"/>
            <a:ext cx="72072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619280" y="2781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realtà altre normative prendono in considerazione il problema della tutela della riservatezza nell’ambito della scu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619280" y="3789360"/>
            <a:ext cx="5040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In particolare oltre alla normativa generale vi sono dei richiami specifici che son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Art. Art. 330 bis TU 297/94 (oggi abrog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rigitte"/>
              </a:rPr>
              <a:t>Art. 2, c. 2  d.p.r. 249/98 (regolamento sullo statuto delle studentesse e degli stud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7164360" y="4581360"/>
            <a:ext cx="827280" cy="1133640"/>
          </a:xfrm>
          <a:prstGeom prst="wedgeRectCallout">
            <a:avLst>
              <a:gd name="adj1" fmla="val -131000"/>
              <a:gd name="adj2" fmla="val 29972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6" descr="gazzetta 3"/>
          <p:cNvPicPr/>
          <p:nvPr/>
        </p:nvPicPr>
        <p:blipFill>
          <a:blip r:embed="rId2"/>
          <a:stretch/>
        </p:blipFill>
        <p:spPr>
          <a:xfrm>
            <a:off x="7236000" y="4653000"/>
            <a:ext cx="720720" cy="100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logo_italian_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258-419B-4E1D-BE22-CE682439A27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600200" y="1752480"/>
            <a:ext cx="648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Scheda </a:t>
            </a:r>
            <a:r>
              <a:rPr b="1" lang="it-IT" sz="2400" spc="-1" strike="noStrike">
                <a:solidFill>
                  <a:srgbClr val="cc0000"/>
                </a:solidFill>
                <a:latin typeface="Brigitte"/>
                <a:ea typeface="Times New Roman"/>
              </a:rPr>
              <a:t>7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: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Rapporti scuola-famiglie: gestione del contenzios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619280" y="27082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"scheda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  individua i dati sensibili e giudiziari concernenti le attività connesse alla instaurazione di contenzioso (reclami, ricorsi, esposti, provvedimenti disciplinari etc.) con gli alunni e con le famiglie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619280" y="4365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tratta di una scheda di particolare rilievo per coloro che operano negli uffici amministra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8172360" y="3357720"/>
            <a:ext cx="609840" cy="158400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1692360" y="5734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Verifichiamola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73E1-98B1-489E-821E-72FF370D540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619280" y="2421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tratta di un provvedimento importante, previsto dagli articoli 20 e 21 del D. L.vo 196/03 e più volte sollecitato dal Garante per la protezione della privacy,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1619280" y="4508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Che ha la funzione di specificare i tipi di dati che possono essere trattati dalle scuole, le operazioni che su di essi sono eseguibili e le finalità di rilevante interesse pubblico persegu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AutoShape 14"/>
          <p:cNvSpPr/>
          <p:nvPr/>
        </p:nvSpPr>
        <p:spPr>
          <a:xfrm>
            <a:off x="4572000" y="3500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E9DE-D3F1-4AF9-AE9F-39FC17029CC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187280" y="2708280"/>
            <a:ext cx="30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enza l’adozione del Regolamento, che risponde alle prescrizioni del Garante non sarebbe stato possibile, nelle scuole, operare il trattamento dei dati sensibili e giudiziari, dopo il 28 febbraio 2007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13"/>
          <p:cNvSpPr/>
          <p:nvPr/>
        </p:nvSpPr>
        <p:spPr>
          <a:xfrm rot="16200000">
            <a:off x="4426560" y="3645720"/>
            <a:ext cx="72072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5292720" y="2997360"/>
            <a:ext cx="28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tale data sarebbe scaduta l’ennesima proroga dei termini stabilita da successivi interventi legislativi del governo e del parlamento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A602-977B-447F-8AB8-5A5769E985C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oltre è molto importante non perdere di vista il contesto in cui il trattamento si svolge descritto in maniera riassuntiva dalle schede medesim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1619280" y="3789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 esempio per le operazioni propedeutiche di avvio dell’anno scolastico (scheda n.4) non è consentito il trattamento dei dati relativi alle convinzioni filosofiche, che invece è consentito per la gestione del contenzioso e procedimenti disciplinari (scheda n.2)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14"/>
          <p:cNvSpPr/>
          <p:nvPr/>
        </p:nvSpPr>
        <p:spPr>
          <a:xfrm>
            <a:off x="8172360" y="285264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8A6-4F5B-454A-9B6C-95F815138F2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600200" y="17524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Commento : le ragioni de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 pratica, le schede, sono molto importanti dal punto di vista operativo e costituiscono una ”guida” obbligatoria da cui le scuole non possono derog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619280" y="378936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Ad esempio, nella gestione del rapporto di lavoro (scheda n. 1), i dati idonei a rilevare l’adesione al sindacato possono essere trattati solo per operare la ritenuta sindacale e per l’esercizio dei diritti sindacali. Un trattamento per fini diversi sarebbe illegittim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4BF2-D773-4B59-B724-6504C249F84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1619280" y="24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L’adozione del Regolamento da parte del Ministero non richiede una successiva adozione da parte delle scuole, obbligate per legge a rispettarlo,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1619280" y="4292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Brigitte"/>
              </a:rPr>
              <a:t>ma comporta la necessità di rivedere e modificare alcuni atti già adottati e i procedimenti interni alla scuola seguiti nel trattamento dei dati sensibili e giudiziar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4572000" y="35002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4203-71B2-439E-BECC-63E5907935B4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61928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nel Documento Programmatico per la Sicurezza la parte relativa all’elenco dei dati personali trattati sia adeguata alle prescrizioni e indicazioni contenute nelle schede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Picture 16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1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AutoShape 2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AutoShape 2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68E7-1DBC-49A5-9B02-860ECD6995F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619280" y="3284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Titolare del trattamento (dirigente scolastico) adegui la nomina del Responsabile del trattamento richiamando le prescrizioni contenute nel Regolamento e fornendo gli indirizzi per la loro attuazione nei procedimenti amministrativi e nella gestione delle attività;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DBB5-59C2-466F-8751-8844409FE34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619280" y="328464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l Responsabile del trattamento (per la parte relativa al personale posto alle sue dirette dipendenze) e il Titolare del trattamento (per il personale docente) adeguino le designazioni degli incaricati del trattamento, modificando, se necessario, le autorizzazioni concesse e le linee guida emanate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3353-C78D-4409-A4B0-F2ED13BE4C4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619280" y="32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conoscenza del Regolamento sia oggetto dell’attività di formazione del personale incaricato prevista dal D.L.vo 196/03;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15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D95-2FBF-4FB1-8151-232775C73B1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19280" y="19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La normativa prevista dal codice sulla privacy in sostanza non fa altro che ricalcare le affermazioni contenute nel vecchio art. 330 bis TU 297/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1619280" y="30686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Mentre le affermazioni di principio contenute all’art. 2, c. 2  d.p.r. 249/98 appaiono superate per il fatto che vi è solo un generico rimando alla “tutela della riservatezza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4572000" y="403848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600200" y="4724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può dunque affermare che una regolamentazione completa del diritto alla tutela dei dati personali (e non solo della riservatezza) si è avuta con il codice della privacy al quale di recente si è aggiunto il DM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33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4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36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37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38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E830-E1B9-4125-BD91-DA5B6E7A704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1619280" y="32846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nell’informativa agli interessati si faccia riferimento al rispetto da parte della scuola alle prescrizioni del Regolamento;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15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6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AutoShape 18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AutoShape 19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20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333-AC92-4362-AEA4-AD38BED728A0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1600200" y="17524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Gli adempimenti conseguenti il regol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619280" y="2492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dempimento n. </a:t>
            </a:r>
            <a:r>
              <a:rPr b="1" i="1" lang="it-IT" sz="2400" spc="-1" strike="noStrike">
                <a:solidFill>
                  <a:srgbClr val="cc0000"/>
                </a:solidFill>
                <a:latin typeface="Brigitt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161928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si dia evidenza dell’aggiornamento del Documento Programmatico per la Sicurezza nella relazione al programma annuale. Tale adempimento va fatto entro il 31 marzo.</a:t>
            </a:r>
            <a:r>
              <a:rPr b="0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18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CE6D-B94F-480E-A652-834E06F7EC2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e schede de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4" name="Picture 6" descr="logo_italian_v"/>
          <p:cNvPicPr/>
          <p:nvPr/>
        </p:nvPicPr>
        <p:blipFill>
          <a:blip r:embed="rId1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7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AutoShape 9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AutoShape 10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AutoShape 11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1258920" y="1844640"/>
            <a:ext cx="7122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Monotype Corsiva"/>
              </a:rPr>
              <a:t>Note sul copy r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1258920" y="2349360"/>
            <a:ext cx="720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Monotype Corsiva"/>
              </a:rPr>
              <a:t>L’utente riconosce che tutti i diritti associati a questo prodotto multimediale ed ai suoi componenti, al manuale ed alla confezione, oltre i diritti relativi al trademark, royalty e copyright, sono di proprietà dell’avvocato Vincenza Pierri e sono protetti dalla legislazione italiana o altre leggi, trattati e accordi internazionali relativi alla proprietà intellettual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Monotype Corsiva"/>
              </a:rPr>
              <a:t>E’ vietato copiare, riprodurre o trasferire in alcuna forma, sia per intero sia parzialmente, la presente documentazione senza autorizzazione scritta dell’au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1547640" y="5589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Verdana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ECB7-A475-42E3-BEDF-8CD34791145C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19280" y="1773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Occorre anche considerare che nell’ambito scuola la tutela della riservatezza e dei dati personali non è argomento che riguardi solo gli stud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619280" y="2781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Infatti dati utilizzati e trattati dalla scuola concernon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692360" y="3573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2195640" y="36450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gli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alunni 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e le rispettive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famig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1692360" y="4437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195640" y="4508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il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personale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 scola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692360" y="5373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2195640" y="522936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altri </a:t>
            </a:r>
            <a:r>
              <a:rPr b="1" i="1" lang="it-IT" sz="2400" spc="-1" strike="noStrike">
                <a:solidFill>
                  <a:srgbClr val="000000"/>
                </a:solidFill>
                <a:latin typeface="Brigitte"/>
              </a:rPr>
              <a:t>soggetti</a:t>
            </a:r>
            <a:r>
              <a:rPr b="1" lang="it-IT" sz="2400" spc="-1" strike="noStrike">
                <a:solidFill>
                  <a:srgbClr val="000000"/>
                </a:solidFill>
                <a:latin typeface="Brigitte"/>
              </a:rPr>
              <a:t> relativamente ad attività svolte nella scuola o    nell’esercizio dell’azione amminist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1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2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24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25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26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38F5-3091-4F83-86EF-DD50E0A76FAF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600200" y="19051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L’esigenza di disporre di un regolamnto specifico discende dalla stessa previsione del Codice sulla Privacy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1600200" y="304812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 particolare gli articoli 20, comma 2, e 21, comma 2, dispongono che, nel caso in cui una disposizione di legge specifichi la finalità di rilevante interesse pubblico, ma non i tipi di dati sensibili e giudiziari trattabili ed i tipi di operazioni su questi eseguibili, il trattamento è consentito solo in riferimento a quei tipi di dati e di operazioni identificati e resi pubblici a cura dei soggetti che ne effettuano il trattamento, in relazione alle specifiche finalità perseguite nei singoli c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7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8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30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31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32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1A53-4A70-4CDB-A675-DE6278F7735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19280" y="1916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Regolamento, predisposto dal MPI, disciplina il trattamento dei dati sensibili e giudiziari gestiti dallo stesso Ministero e dalle istituzioni scolastiche. Si tratta di un quadro generale di garanzie per la gestione dei dati che incidono in modo significativo in particolare sulla sfera privata degli studenti.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619280" y="386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Regolamento medesimo contiene una serie di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schede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2"/>
          <p:cNvSpPr/>
          <p:nvPr/>
        </p:nvSpPr>
        <p:spPr>
          <a:xfrm>
            <a:off x="8172360" y="2781360"/>
            <a:ext cx="609840" cy="1584360"/>
          </a:xfrm>
          <a:custGeom>
            <a:avLst/>
            <a:gdLst>
              <a:gd name="textAreaLeft" fmla="*/ 81720 w 609840"/>
              <a:gd name="textAreaRight" fmla="*/ 528120 w 6098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92360" y="486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rigitte"/>
                <a:ea typeface="Times New Roman"/>
              </a:rPr>
              <a:t>In totale le schede sono 7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9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0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AutoShape 22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23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24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631-8914-46C2-AD1A-46A5D3F302A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619280" y="19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Nelle “schede” sono riportate le finalità di rilevante interesse pubblico per </a:t>
            </a:r>
            <a:r>
              <a:rPr b="1" i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"trattare"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i dati sensibili e giudizia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1692360" y="3068640"/>
            <a:ext cx="64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ciascuna di esse si articola in diverse par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ndicazione del trattament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Finalità di rilevante interesse pubblico persegu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Fonti norm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Tipi di dati tratta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perazioni eseguit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rigit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tre tipologie di trattament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0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1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AutoShape 23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AutoShape 24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2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E2E-014E-4246-9B28-6807350D10DB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19280" y="19162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Scopo del Regolamento è identificare le tipologie dei dati sensibili e giudiziari e delle operazioni indispensabili per la gestione del sistema dell'istru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600200" y="30481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Arial Unicode MS"/>
              </a:rPr>
              <a:t>Detti dati devono essere trattati previa verifica della loro pertinenza, completezza e indispensabilità rispetto alle finalità perseguite nei vari cas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00200" y="434340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Arial Unicode MS"/>
              </a:rPr>
              <a:t>Le varie operazione di trattamento (raffronti, interconnessioni, comunicazioni) sui dati raccolti sono ammesse soltanto se indispensabili allo svolgimento degli obblighi o dei compiti di volta in volta individuati e solo per il perseguimento di rilevanti finalità di interesse pubblico e istituziona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2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2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2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egnaposto numero diapositiva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00B-BE3A-4145-85EE-1820F097C889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843280" y="19162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600200" y="10666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troduzione: Il Decreto Ministeriale 305/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600200" y="17524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Il decreto si sostanzia in sette schede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981080" y="21337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Personale dell'amministrazione e personale scolastico (docenti e AT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752480" y="22096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752480" y="28195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981080" y="28195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Gestione del contenzioso e procedimenti disciplinar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1752480" y="33526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1981080" y="33526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Organismi collegiali e commissioni istituziona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1752480" y="39625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981080" y="3886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unni nelle fasi propedeutiche all'avvio dell'anno scolasti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1752480" y="46483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1981080" y="46483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Alunni nell'attività didattica e nella valut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WordArt 21"/>
          <p:cNvSpPr txBox="1"/>
          <p:nvPr/>
        </p:nvSpPr>
        <p:spPr>
          <a:xfrm>
            <a:off x="1752480" y="5181480"/>
            <a:ext cx="9216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981080" y="51814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Scuole non statal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WordArt 23"/>
          <p:cNvSpPr txBox="1"/>
          <p:nvPr/>
        </p:nvSpPr>
        <p:spPr>
          <a:xfrm>
            <a:off x="1752480" y="5791320"/>
            <a:ext cx="92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gitte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gitte"/>
              <a:ea typeface="Brigitte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1981080" y="579132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rigitte"/>
                <a:ea typeface="Times New Roman"/>
              </a:rPr>
              <a:t>Rapporti scuola-famiglie: gestione del contenzio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28" descr="logo_italian_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539640" cy="5183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9"/>
          <p:cNvSpPr/>
          <p:nvPr/>
        </p:nvSpPr>
        <p:spPr>
          <a:xfrm>
            <a:off x="5867280" y="0"/>
            <a:ext cx="327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Il decreto legislativo 196 del 30/06/2003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Commento al Decreto Ministeriale 305/2006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611280" y="6208560"/>
            <a:ext cx="291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366"/>
                </a:solidFill>
                <a:latin typeface="Arial"/>
              </a:rPr>
              <a:t>A cura del  Avv. Vincenza Pierri - Tutti i diritti sono riservat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31">
            <a:hlinkClick r:id="" action="ppaction://hlinkshowjump?jump=firstslide"/>
          </p:cNvPr>
          <p:cNvSpPr/>
          <p:nvPr/>
        </p:nvSpPr>
        <p:spPr>
          <a:xfrm>
            <a:off x="8388360" y="6570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32">
            <a:hlinkClick r:id="" action="ppaction://hlinkshowjump?jump=nextslide"/>
          </p:cNvPr>
          <p:cNvSpPr/>
          <p:nvPr/>
        </p:nvSpPr>
        <p:spPr>
          <a:xfrm>
            <a:off x="871236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33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0:11:46Z</dcterms:created>
  <dc:creator> pippo</dc:creator>
  <dc:description/>
  <dc:language>en-US</dc:language>
  <cp:lastModifiedBy>Pinocchio</cp:lastModifiedBy>
  <dcterms:modified xsi:type="dcterms:W3CDTF">2010-04-11T20:04:44Z</dcterms:modified>
  <cp:revision>4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